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5FC-1E79-44F8-A3E1-784AF3E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BDF-08B5-4993-8212-EF88CC1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A59-3092-473B-9629-ACB1A86D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C3D-2AC9-4E87-A8E5-B33E7E91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89B2-BEC8-4737-B49D-A021F13D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D608-81B4-48CB-BF76-41D786F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F34-2EFC-4624-BF64-85B0D9F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3DA0-207E-43A2-A91F-FE92C36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0D9-85A4-40A5-A0EA-5C85187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F968-5B2D-43F6-83A9-C2831F65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0921-D0E8-41FD-9B29-8C97865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20F-1BDF-4B4B-BCE8-88093F92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DF7B-A8BD-46D1-A1CB-EF8137B9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E427-1205-4240-8100-D586C4E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5F10-B162-4D86-9BB6-3EAB64F0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7F19-9F34-4E6E-9A4D-195E8D11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137-6896-41FC-8AA7-C2CF1533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0DB6-6E2C-498F-999F-2EC4007C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161D-7E49-4C1B-AE23-6F9A04A3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B964-7969-4FC1-96EA-CB6C51C0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8C95-6DA8-48EC-9E6E-F7C4D0A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AC9F-F31B-4BC4-B379-69D829D7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0FC-A7AB-49E0-8998-EEAD464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3B01-1B97-446A-B4B4-5004A8B6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85B8D-D8D6-4E74-A408-1A9D38C9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375D-25D1-4F06-97E2-30115CB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4F23-38F1-4EAC-9D5F-3A27D72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F33EF-2CE5-46C4-9473-7714A85C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51F4-A019-4E10-B44B-F308AE24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7A189-5A19-47EA-AB2D-B7ED87E0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CAB6-E612-4F8F-8CAD-96025961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EB39-FE49-4C1C-A37F-1AA90BA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9367-3681-405C-84C5-BB00CF0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FD5-8106-4912-A3FC-B9E9551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0512-0CF8-4374-911A-7032364F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E4F3-6BE6-476E-BF92-13FEE60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A6B5-9262-4C93-8682-6E7506A5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740A-703D-45D2-BCCF-32A0D435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46C6-7631-4554-94B8-D42BEE4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96BA-0C1B-4F47-9A49-BCF0AFC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978F9-6354-4EE9-AA91-6245FCB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2A09-78E8-44A2-AB96-2FF87DF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B0E6-0EF0-40A5-AC59-76D4359D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905-9BCB-4511-9604-6611BC0A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CD7-501C-4E1D-830C-175ED12D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0C9-8F1A-4DB7-9844-407F629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BAA-4988-498F-9DF4-7092E50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5C9-EC64-4F01-B3C7-56DB8C5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C94A-0528-4CF9-84AA-636ED4441D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A1E-15B5-4F20-BEBB-7E143184A6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4B8-343B-4CFA-BD4C-3E71139CC4F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6D9F-C1F6-41AB-ABB1-4C04961E3D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7864200" cy="1901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2 Lab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harts and Visual Design Rule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1295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think that Pie Chart is the best type of charts to compare between years 2000 and 2007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FEC-50F3-4462-8005-3D691B5DFF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666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this on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F29-9EC1-413F-8ADB-D5A79EFE0A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Bad Exam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Content Placeholder 6" descr="phillips2.jpg"/>
          <p:cNvPicPr/>
          <p:nvPr/>
        </p:nvPicPr>
        <p:blipFill>
          <a:blip r:embed="rId1"/>
          <a:stretch/>
        </p:blipFill>
        <p:spPr>
          <a:xfrm>
            <a:off x="685800" y="1752480"/>
            <a:ext cx="8229600" cy="423072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2ED-583D-4373-B9F6-9428F4DD56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ontent Placeholder 6" descr="how_to3.gif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4316400"/>
          </a:xfrm>
          <a:prstGeom prst="rect">
            <a:avLst/>
          </a:prstGeom>
          <a:ln w="0">
            <a:noFill/>
          </a:ln>
        </p:spPr>
      </p:pic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285B-70CF-41AA-8D1E-AC8B1426ACA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6" descr="image003.jpg"/>
          <p:cNvPicPr/>
          <p:nvPr/>
        </p:nvPicPr>
        <p:blipFill>
          <a:blip r:embed="rId1"/>
          <a:stretch/>
        </p:blipFill>
        <p:spPr>
          <a:xfrm>
            <a:off x="609480" y="1371600"/>
            <a:ext cx="7391520" cy="4592520"/>
          </a:xfrm>
          <a:prstGeom prst="rect">
            <a:avLst/>
          </a:prstGeom>
          <a:ln w="0">
            <a:noFill/>
          </a:ln>
        </p:spPr>
      </p:pic>
      <p:sp>
        <p:nvSpPr>
          <p:cNvPr id="2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92AF-6CE5-4C70-A3AD-97D9C24D84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9680" y="6019920"/>
            <a:ext cx="79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lilt.ilstu.edu/gmklass/pos138/datadisplay/sections/goodcharts.ht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mall Multi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Content Placeholder 6" descr="Smallmult.png"/>
          <p:cNvPicPr/>
          <p:nvPr/>
        </p:nvPicPr>
        <p:blipFill>
          <a:blip r:embed="rId1"/>
          <a:stretch/>
        </p:blipFill>
        <p:spPr>
          <a:xfrm>
            <a:off x="1309680" y="1940040"/>
            <a:ext cx="6524640" cy="3774960"/>
          </a:xfrm>
          <a:prstGeom prst="rect">
            <a:avLst/>
          </a:prstGeom>
          <a:ln w="0">
            <a:noFill/>
          </a:ln>
        </p:spPr>
      </p:pic>
      <p:sp>
        <p:nvSpPr>
          <p:cNvPr id="2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5551-2A3D-466C-BFCE-E5E2B6A147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364760" y="59436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ttp://en.wikipedia.org/wik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, sheet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8284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chart from the data set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DD0-1274-4E7D-BFEB-E12248BF4F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what to do to make the chart looks bet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93AB-C647-47B8-8B6D-7492632CC8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a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Chart Wizard to create the default chart on a data s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a chart according to good chart design principl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EDA-501F-4187-9FFD-4FBCF0E5C7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ing Chart Wizard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the following spreadsheet in Ex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op menu bar, select 'Insert' using your mouse. You should now see a group of icons labeled 'Charts', under the top menu b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data to be included in the char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your mouse to select the 'Column' chart. A drop down menu should appear showing the different types of column charts available. Select the type you w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column chart should have been added to your current worksheet. You can move the new chart by clicking-and-dragging it to a new location in the workshe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D82-CC75-4747-B679-1A9AA4D8C7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lumn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data in sheet1 to make a 2-D column ch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lum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Colum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C6C-E7F6-4688-9696-C57BCF1CBA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Chart 6" descr=""/>
          <p:cNvPicPr/>
          <p:nvPr/>
        </p:nvPicPr>
        <p:blipFill>
          <a:blip r:embed="rId1"/>
          <a:stretch/>
        </p:blipFill>
        <p:spPr>
          <a:xfrm>
            <a:off x="2432160" y="2968560"/>
            <a:ext cx="45846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color of the chart bars to be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horizontal title “Name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xis Titl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Axis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vertical title “Length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both titles to 20 pt and 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click on the title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default title of the chart to be Family Child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t Tit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the legend in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gend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the Horizontal Gridlines from the Ch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550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t Tool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out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mary Horizontal  Gridlines </a:t>
            </a: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84200" indent="-45720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924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65E-70E1-4543-87C7-1FE1519318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D5E9-D411-4815-8316-287713CEBF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Pie Char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Data in sheet2 to make Pie Chart for year 2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36DD-3276-4E95-84A9-5CC5EE3A215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6294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nother Chart for year 2007 and change its color to gr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er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D P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2620-8329-4062-B4DD-7DC7C0508C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400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0880" y="8377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the legend of the second chart (2007) to be shown on the t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 Data in second chart (2007)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2- Lab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A2CF-F6B0-463B-B668-437B8E10A1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315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ina</cp:lastModifiedBy>
  <dcterms:modified xsi:type="dcterms:W3CDTF">2009-01-26T18:26:45Z</dcterms:modified>
  <cp:revision>97</cp:revision>
  <dc:subject/>
  <dc:title>CPSC 203</dc:title>
</cp:coreProperties>
</file>